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867-0751-4A3B-A2F1-A138240F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FAB-37A9-4772-A69B-AF6289CF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13D-1C94-4EB9-A81F-43D39818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26E-1C3E-4324-9B45-6A8988D8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CD1-01EC-41E1-8BF0-156D21D6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404-416C-4997-A626-7DF86E3F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B37-654E-4B44-B16B-DB836B5A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E1C-AC1E-421C-B7C1-612A8F1A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DE7-4E4D-449A-AE82-95761076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9EF-B2B9-4BB6-A834-1A309A0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F1A-E1FD-497A-896A-9F697BEC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3F6-3EA7-4766-B44A-955A397C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D755-2D65-48E0-A8E9-75B285FFC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1628640"/>
            <a:ext cx="6337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Finanční řízení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1532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0CC-B31D-40A6-8674-7FAC5E2535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Hlavní zásady finančn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prostředky musí být vynakládány efektivně na projekty, které přispějí k realizaci cílů OP R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financování projektů se sdružují prostředky EU a státního rozpočtu v poměru 75 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být financován jen z jednoho Strukturálního fon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í být dodržen zákon o rozpočtových pravidlech 218/2000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C94-F1DD-4909-A652-6F154A66C3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latby Konečným uživatelům v OP RL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ny projekty budou předfinancovány maximálně do výše 25 % celkových plánovan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běžné plat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ěrečné vyúčt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 – každý projekt přesahující 3 mil. Kč musí mít proveden audit autorizovanou auditorskou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7AD-3240-4666-B546-52ED89CC2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Roz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sestavování rozpočtu je nutné dodržet tyto základní podíly některých výdajů na celkových výdajích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na nákup nového či použitého HIM maximálně 25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 maximálně 49 %, 51 % výdajů projektu musí být    realizováno žadatelem a 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žijní náklady maximálně 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5B5-A4CD-4E6E-BFA5-43A71D672E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měny při realiz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jemce je povinen o všech změnách informovat Konečné příjem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prováděné bez souhlasu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vyžadující uzavření dodatku k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026-7E6D-4AC2-B376-F494448B18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dministrace výběru doda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odavatelů musí být transparentní  a nediskrimin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nad 2 mil. se řídí zákonem 40 /2004 Sb. (Zákon o veřejných zakáz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500 000 až 2 m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le bodov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služby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realizačního týmu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a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100 000 až 500 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do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4DA-0FCA-40B8-9E3F-D6B7CAE7A6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eřejná pod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Opatření 3.2 OP RLZ se veřejná podpora týká pouze Pp D – zvyšování kvalifikace vědeckých a výzkumných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účely veřejné podpory rozlišujeme obecné a specifické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jimka poskytnutá pro OP RLZ Úřadem pro ochranu hospodářské soutěže č.j. VP/81/04-160. Úplné znění www. 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OP RLZ byly tímto rozhodnutím stanoveny 4 mechanizmy poskytování veřejné podpory, ale pro Opatření 3.2 je možné využít pouze tyto d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pro vzdělávání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028-E3EC-4FB7-B1A2-A28142C051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íra veřejné podpory pro vzdělávací projek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2276640"/>
          <a:ext cx="7557840" cy="3862080"/>
        </p:xfrm>
        <a:graphic>
          <a:graphicData uri="http://schemas.openxmlformats.org/drawingml/2006/table">
            <a:tbl>
              <a:tblPr/>
              <a:tblGrid>
                <a:gridCol w="3240000"/>
                <a:gridCol w="2089080"/>
                <a:gridCol w="22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k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cn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4EE-FB17-4770-97BE-E49A3F05D6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A5C-EEDF-4A94-A587-6FE5A2425D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7:41Z</dcterms:modified>
  <cp:revision>14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506026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